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8CB-5D19-441C-B008-E0757893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AE5-FE2D-44A1-978C-4BD9A895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1C5-529B-407D-B065-454AF9CA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34A-6889-4011-8CE2-569CA46A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B77-A95C-4826-9E5B-0052BA9F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C5F-3122-4AE4-B6F8-5DA99F52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B4D-B96A-4379-88E1-B8F07724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98B-4E4C-4EBE-80F3-E32C3ACF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92F-BAA2-4D5B-A309-0FADA0C9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C26-CF7C-4E15-92E9-9A901F2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D3B-B169-476F-97FE-4D591904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B48-DA7B-4681-B5A0-7200A5B3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2B24-0CDF-45A9-B907-A7E63E9B9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eorological Services Department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mbabw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Kap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5 August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Synoptic &amp; Climate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5" name="Picture 5" descr="C:\Users\WMO Office\Documents\WIGOS ZIMBABWE\MSD Synoptic &amp; Climate Stations.jpg"/>
          <p:cNvPicPr/>
          <p:nvPr/>
        </p:nvPicPr>
        <p:blipFill>
          <a:blip r:embed="rId1"/>
          <a:srcRect l="14874" t="0" r="19891" b="0"/>
          <a:stretch/>
        </p:blipFill>
        <p:spPr>
          <a:xfrm>
            <a:off x="1295280" y="1447920"/>
            <a:ext cx="6019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MSD Automatic Weather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48" name="Picture 2" descr="C:\Users\WMO Office\Documents\WIGOS ZIMBABWE\MSD AWS.jpg"/>
          <p:cNvPicPr/>
          <p:nvPr/>
        </p:nvPicPr>
        <p:blipFill>
          <a:blip r:embed="rId1"/>
          <a:srcRect l="14874" t="0" r="21326" b="0"/>
          <a:stretch/>
        </p:blipFill>
        <p:spPr>
          <a:xfrm>
            <a:off x="1295280" y="190512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Rainfall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1" name="Picture 2" descr="C:\Users\WMO Office\Documents\WIGOS ZIMBABWE\Rainfall Stations.jpg"/>
          <p:cNvPicPr/>
          <p:nvPr/>
        </p:nvPicPr>
        <p:blipFill>
          <a:blip r:embed="rId1"/>
          <a:srcRect l="14158" t="0" r="19891" b="0"/>
          <a:stretch/>
        </p:blipFill>
        <p:spPr>
          <a:xfrm>
            <a:off x="1523880" y="1905120"/>
            <a:ext cx="6019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NWA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4" name="Picture 2" descr="C:\Users\WMO Office\Documents\WIGOS ZIMBABWE\ZINWA STATIONS.jpg"/>
          <p:cNvPicPr/>
          <p:nvPr/>
        </p:nvPicPr>
        <p:blipFill>
          <a:blip r:embed="rId1"/>
          <a:srcRect l="12007" t="0" r="21326" b="0"/>
          <a:stretch/>
        </p:blipFill>
        <p:spPr>
          <a:xfrm>
            <a:off x="1523880" y="190512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ZIMNAT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7525" t="13543" r="15079" b="6250"/>
          <a:stretch/>
        </p:blipFill>
        <p:spPr>
          <a:xfrm>
            <a:off x="1295280" y="160020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OXFAM 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0" name="Picture 2" descr="C:\Users\WMO Office\Documents\WIGOS ZIMBABWE\Oxfam Stations.jpg"/>
          <p:cNvPicPr/>
          <p:nvPr/>
        </p:nvPicPr>
        <p:blipFill>
          <a:blip r:embed="rId1"/>
          <a:srcRect l="12007" t="0" r="19891" b="0"/>
          <a:stretch/>
        </p:blipFill>
        <p:spPr>
          <a:xfrm>
            <a:off x="1447920" y="1905120"/>
            <a:ext cx="62481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Bookman Old Style"/>
              </a:rPr>
              <a:t>Network of Network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785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W" sz="1800" spc="-1" strike="noStrike">
              <a:solidFill>
                <a:srgbClr val="898989"/>
              </a:solidFill>
              <a:latin typeface="Bookman Old Style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25184" t="12500" r="25037" b="12500"/>
          <a:stretch/>
        </p:blipFill>
        <p:spPr>
          <a:xfrm>
            <a:off x="1295280" y="1143000"/>
            <a:ext cx="647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7 Manual Stations (Synoptic and Clim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 Upper Air Station (4 requir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 Stations on G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 MSD Automatic Weather S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1 Automatic Weather Stations with Partn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9 Automatic Weather Stations against 150 requir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250 rainfall sta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3 of the 47 Stations on the OSCAR/Surface Platfor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09:27:45Z</dcterms:created>
  <dc:creator>AWOS</dc:creator>
  <dc:description/>
  <dc:language>en-US</dc:language>
  <cp:lastModifiedBy>AWOS</cp:lastModifiedBy>
  <dcterms:modified xsi:type="dcterms:W3CDTF">2018-08-15T09:51:05Z</dcterms:modified>
  <cp:revision>5</cp:revision>
  <dc:subject/>
  <dc:title>Meteorological Services Department   Zimbabwe</dc:title>
</cp:coreProperties>
</file>